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5EE3-7580-40FB-9F32-C8FD50855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know what to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know where to grow… if they are all the sam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 are differ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48FE-DF68-448E-9F43-FF47EEB64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 bring book out of library. Make copies of pages you need. Leave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2888-63C4-40AD-9823-705FD7CB9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6BCA-7A48-4AFB-BF7C-696D4ACC9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E7D-230D-4B34-A24C-4D5442A8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BE2-A410-46E6-A83E-D9277A68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F96-37BB-4357-93D5-5CDE37EE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C70-83FD-4C99-A379-3E9AA343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E83B-6944-4A02-8197-C9DF791D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629F-D7D9-4A91-9FB8-419D22CE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B6B9-CC5A-4B6C-8842-94B09B5D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A3C6-0421-42E0-8500-50773F24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259F-E7A7-4DB2-A9A4-A5706703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91C8-E340-446C-AB83-7E9DCD4C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C641-77D6-4413-BBA2-869CD07A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702-BAE7-45FC-84FF-2BEB0ED9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0A35-BA44-4B24-9AD5-ED671C91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416A-EEAD-4DF2-B0E0-29CF5015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C947-0658-427F-9BFD-24DC8E44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DE05-375D-4D0B-BE4A-4778E2B7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426B-C157-487C-8266-D3AF2481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992DA-F055-4EE6-9F19-B26EDB99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B881F-97F8-417C-A393-FAF123C6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53E6A-00A0-41CA-A75E-DFF07E6F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C5945-F4DA-4A5D-80DF-5C97BFF4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6F832-3D38-482D-96F7-54F899DA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49C-FCF4-4DB7-BBB2-82D30665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FE717-7991-4093-B2F5-7B3780A5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3DB2F-82A5-425D-A5E4-D2062777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DB84B-EE57-4197-A9B5-9AF49526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50409-912E-445F-A0C3-1DAF2332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0EEDE-BAD8-4B74-B7E0-4E9F2DC2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EA74-1CFF-4725-AB63-88899685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8BB5A-9C6C-49D0-BD07-8D773CC0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EC248-756D-4DF9-81FA-5792E4B6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3677B-AFAA-4EE1-A048-8E64EF76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6387D-29D8-4CFA-AEE9-ED17D334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03A7-B214-471B-A19F-049A86E4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1E41F-6EBF-4B4D-8465-6B959E83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E3F14-4183-481D-97E5-3FAC00F9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807F6-6BD7-4002-85F2-7ABFF9B5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50E97-851F-4478-B7BF-1B865236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DF59D-C150-4487-A3FC-04D29AB7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602CD-75A4-4B77-85F7-83DAED40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6DA2B-B298-4D89-9D59-B0B2C997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60813-AD9A-4A52-851F-D8AB09F6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8A456-1A35-43B5-A6A6-8F9D6359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7CF9D-D1C2-4FD1-B300-5AA578EB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764-1D3C-495E-97D3-38B475B3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BCB03-02E8-4AC3-B4F4-0E65DC45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997C0-EE80-4C0D-81CA-BE1F38A7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714AC-78E6-4984-928E-C36D2E88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C77F1-2886-47C8-8991-759634B2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9669F-A87A-4B11-AB7C-EF1516D4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B6354-A2DE-4F0F-9B1B-41FB9F5A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D58AF-6F54-4582-B462-E4F1EF88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B7BDE-E50B-462F-BE18-6ECE727F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94A31-2CB9-4FCB-9B6D-2EE299AF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09A8E-7DA1-4BEC-941A-72B6B6B4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B46-4D66-4BF0-BD6B-626EB014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5D049-A7FB-4F26-99A0-76CD4A59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70F71-8327-49D5-91DC-DEBD862E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51256-D004-48AE-8A13-FE7EC5A5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D460B-D2B9-4BD0-B2BD-01646945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F1311-5E9A-4498-8F8D-91C68445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61928-F0CD-41A2-8E48-7D83CB09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71DF8-9D40-406F-BFCA-6DAD91F4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931B9-C9F9-47FF-A3B0-2359C8C1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5439C-9AB2-4FFA-A57D-E36905E4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5AB6E-67D2-41D6-9CD7-954D4CA8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F25-1A42-4F5E-B219-104CE754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3FC94-D39A-4B67-BD13-D6CC364E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16F96-EAEA-472F-9C01-161855E7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B43DF-D6C3-4065-B07C-8EE44B7C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619A0-FEE1-4389-8A64-8B5B4C64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5EA6C-6AF2-41A5-9976-C8D76BC4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EEA3A-19D4-4BC7-93A3-132A7720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5788F-B49A-444C-B191-691EC94B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EAA56-D90C-4054-BAD3-042F7939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07955-7330-4E4B-8D94-4D3EC0ED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05E35-9457-4CF8-8922-3EB1914B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0D5-610D-4145-895B-6918473A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BB0C6-6D87-46E9-ADB3-0152F35E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400F1-84AC-4667-AE30-2F661DCF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CBE52-4843-4D0B-A713-4AE778C5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C789F-D456-4070-B04B-C4E11BAC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9B07A-AFF9-4D96-A968-E702AA14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47B-48E1-44A5-AA9A-FAE407E5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E6FA-BDED-40AA-9D4F-1A3759460A7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F49A-FFEB-4BC5-95B0-056F6737DA9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BB09-6DA8-42C3-9681-1C71C4FB101E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AE8C-F97B-43B5-AAA0-8EEA5E35C33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F585-A792-49D6-8C75-581236EFE45F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805C-A0F7-455C-863F-148F86A44FE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297C-D975-4318-8D34-FF95C52DADE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5B98-6DBE-4CAA-818F-55A1CCBDBB2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63E8-968C-436B-9D8D-A99908BB66C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CBF0-BA7D-4D10-8685-15BDDC81928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B8F5-56C7-4166-8290-F357D1F4492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BCDC-AD3C-4A30-9C32-B83C34C557B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D5E5-B039-4D1B-ADD1-C9FD8CFD9CA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F3CA-C658-45F8-946F-567EAC53F50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upload.wikimedia.org/wikipedia/commons/0/07/Gene.png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Oval Callout 19"/>
          <p:cNvSpPr/>
          <p:nvPr/>
        </p:nvSpPr>
        <p:spPr>
          <a:xfrm>
            <a:off x="304920" y="914400"/>
            <a:ext cx="8686800" cy="42670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47880">
            <a:solidFill>
              <a:srgbClr val="2f6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DNA is in all of my cells why aren’t my cells all the sam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775F-0123-4D5E-B120-269DEB7BFE8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89C5-7990-4C59-8563-5C78FC245A7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5410080" y="2971800"/>
            <a:ext cx="1371600" cy="121932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32-Point Star 16"/>
          <p:cNvSpPr/>
          <p:nvPr/>
        </p:nvSpPr>
        <p:spPr>
          <a:xfrm>
            <a:off x="3962520" y="3886200"/>
            <a:ext cx="1752480" cy="1066680"/>
          </a:xfrm>
          <a:custGeom>
            <a:avLst/>
            <a:gdLst>
              <a:gd name="textAreaLeft" fmla="*/ 399960 w 1752480"/>
              <a:gd name="textAreaRight" fmla="*/ 1352520 w 175248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Flowchart: Sequential Access Storage 17"/>
          <p:cNvSpPr/>
          <p:nvPr/>
        </p:nvSpPr>
        <p:spPr>
          <a:xfrm>
            <a:off x="6934320" y="2971800"/>
            <a:ext cx="1676160" cy="838080"/>
          </a:xfrm>
          <a:prstGeom prst="flowChartMagneticTap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Smiley Face 20"/>
          <p:cNvSpPr/>
          <p:nvPr/>
        </p:nvSpPr>
        <p:spPr>
          <a:xfrm>
            <a:off x="380880" y="4724280"/>
            <a:ext cx="2286000" cy="1905120"/>
          </a:xfrm>
          <a:prstGeom prst="smileyFace">
            <a:avLst>
              <a:gd name="adj" fmla="val 9282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ttp://www-class.unl.edu/biochem/gp2/m_biology/animation/gene/gene_a2.html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ttp://www.stolaf.edu/people/giannini/flashanimat/molgenetics/transcription.swf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1DAD-72ED-491E-8496-A34E5F9A3A0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6813-3574-4682-9923-0D8F23994E8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1000"/>
          </a:bodyPr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e code is now in English thanks to the enzym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e DNA couldn’t move out of the cell, but RNA can!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mRNA moves from nucleus to Ribosome  in cytoplasm  where  ribosome reads it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Now Ribosome cannot build a house by himself anymore than  you or I so he has some help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8E41-CA12-4151-B7D0-9AD3BD20048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AEEF-863E-41D6-A5F3-3C4C07B5E73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4" descr=""/>
          <p:cNvPicPr/>
          <p:nvPr/>
        </p:nvPicPr>
        <p:blipFill>
          <a:blip r:embed="rId1"/>
          <a:stretch/>
        </p:blipFill>
        <p:spPr>
          <a:xfrm>
            <a:off x="347760" y="36360"/>
            <a:ext cx="8345520" cy="13780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RNA travels to Ribosome, and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RNA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ttaches the the  instructions (tRNA) to theRibosom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Ribosome then  reads the instruction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Remember that the ribosome cannot do this alone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e Translates it for his workers, and tells them what pieces he needs to make the hous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0A9D-3F47-4241-BC7E-E419A17EDEF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0314-EE1A-486F-A5AD-FD5E5D6DB6C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is workers names ar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ransfer RNA  (tRNA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ey bring amino acids and deliver them to Ribosome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ibosome tells them what order to bond them together, and  they then leave to bring more piec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n this way every protein in the body is made from a chain of amino acid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C320-F156-4D5F-9D53-8C8E836C56C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120B-CF5A-42E8-ACF0-290F7854021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ranscription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Enzyme  called transcriptase unzips and Transcribes the DNA into (messenger RNA) mR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ingle chain with Uricil instead of  Thymin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RNA takes the message to Ribosom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ranslation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ibosome gets help from Transfer RNA (tRNA) and builds a chain of amino acids (protein)  Turning a code into a protei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re are many Ribosomes in a cell, and they can all work on different proteins at the same time.. In this way the cell can build even faster!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472F-B329-4170-BC69-A20FEF3CB6B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15A1-DC49-448E-ACC6-9A7F5EBAD49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ttp://www.stolaf.edu/people/giannini/flashanimat/molgenetics/translation.swf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ttp://www-class.unl.edu/biochem/gp2/m_biology/animation/gene/gene_a3.html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2412-CE1C-486D-A07C-FF80A05DB6B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78C1-19C3-4824-B5B9-7DD81361EE8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sp>
        <p:nvSpPr>
          <p:cNvPr id="37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0DF5-7A80-434A-9EB2-25A4E08194C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5382-805B-42E5-90E3-E2778B688A7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2" descr="http://www.accessexcellence.org/RC/VL/GG/images/protein_synthesis.gif"/>
          <p:cNvPicPr/>
          <p:nvPr/>
        </p:nvPicPr>
        <p:blipFill>
          <a:blip r:embed="rId2"/>
          <a:stretch/>
        </p:blipFill>
        <p:spPr>
          <a:xfrm>
            <a:off x="1082520" y="685800"/>
            <a:ext cx="54738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uble strande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ym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romosom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ngle stran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rici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re than one typ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R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DDEB-145D-4902-843D-5C355189A87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D5C6-7981-4ED3-9B86-EF1C2A29050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09440" y="755640"/>
            <a:ext cx="8510760" cy="10796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14440" indent="-514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ssenger RNA (mRN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rings instructions from DNA in the nucleus to the cytoplas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ibosomal RNA (rRN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inds to the mRNA and uses instructions to assemble the amino acids in the correct ord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fer RNA (tRN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Supplier. Delivers amino acids to the ribosome to be assembled into a protein. (amino acid delivery truck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ttp://www.johnkyrk.com/DNAtranslation.htm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ttp://learn.genetics.utah.edu/content/begin/dna/transcribe/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432B-C436-460F-889A-4019923B31B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77AE-D98E-428F-9EFF-73A2D34E256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http://www.mtrinstitute.com/images/DNA.jpg"/>
          <p:cNvPicPr/>
          <p:nvPr/>
        </p:nvPicPr>
        <p:blipFill>
          <a:blip r:embed="rId2"/>
          <a:stretch/>
        </p:blipFill>
        <p:spPr>
          <a:xfrm>
            <a:off x="243000" y="1600200"/>
            <a:ext cx="8291520" cy="5257800"/>
          </a:xfrm>
          <a:prstGeom prst="rect">
            <a:avLst/>
          </a:prstGeom>
          <a:ln w="0">
            <a:noFill/>
          </a:ln>
        </p:spPr>
      </p:pic>
      <p:sp>
        <p:nvSpPr>
          <p:cNvPr id="32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EF02-73EF-40D4-99DC-4DF3757F515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FE08-5ED8-4B3A-8260-7183E4ADA34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ut they all have the information so they could be the sam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NA fragm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ne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77F9-521F-4D3B-B949-E4DED808CB6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73CD-369B-4D32-BB39-1FD2F9B9C6F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Proteins have job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hat are some things they can do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Some proteins are called enzymes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Some are structural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here are proteins  made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ibosom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64C1-4FF1-4C2C-8916-7C12502D0ED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8015-2C22-44B9-8F01-06231F769CE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2" descr="http://www.dreamingintechnicolor.com/IdeaLab/membrane_proteins.jpg"/>
          <p:cNvPicPr/>
          <p:nvPr/>
        </p:nvPicPr>
        <p:blipFill>
          <a:blip r:embed="rId2"/>
          <a:stretch/>
        </p:blipFill>
        <p:spPr>
          <a:xfrm>
            <a:off x="914400" y="2362320"/>
            <a:ext cx="7315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4" descr=""/>
          <p:cNvPicPr/>
          <p:nvPr/>
        </p:nvPicPr>
        <p:blipFill>
          <a:blip r:embed="rId1"/>
          <a:stretch/>
        </p:blipFill>
        <p:spPr>
          <a:xfrm>
            <a:off x="189000" y="212760"/>
            <a:ext cx="4316400" cy="1012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3657600"/>
            <a:ext cx="8229600" cy="26510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DNA is made up of thousands of smaller pieces called genes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me of these genes are “turned on” and can be “read” depending on the cell, and the cells job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80C3-0D5F-4647-9934-57A5B8D80AB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3273-7F32-4EFA-8ED5-44D2D8EE0EF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2" descr="File:Gen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304920"/>
            <a:ext cx="45720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d0d0d"/>
                </a:solidFill>
                <a:latin typeface="Corbel"/>
              </a:rPr>
              <a:t>These genes are marked in code that enzymes can read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d0d0d"/>
                </a:solidFill>
                <a:latin typeface="Corbel"/>
              </a:rPr>
              <a:t>Back to gen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Corbel"/>
              </a:rPr>
              <a:t>Each gene (gene can be thousands of nucleotides long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d0d0d"/>
                </a:solidFill>
                <a:latin typeface="Corbel"/>
              </a:rPr>
              <a:t>Each single protein has a special purpose in a cel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Corbel"/>
              </a:rPr>
              <a:t>  </a:t>
            </a:r>
            <a:r>
              <a:rPr b="1" lang="en-US" sz="2600" spc="-1" strike="noStrike">
                <a:solidFill>
                  <a:srgbClr val="0d0d0d"/>
                </a:solidFill>
                <a:latin typeface="Corbel"/>
              </a:rPr>
              <a:t>Liver cel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Corbel"/>
              </a:rPr>
              <a:t>Enzyme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Corbel"/>
              </a:rPr>
              <a:t>Skin cel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Corbel"/>
              </a:rPr>
              <a:t>Muscle cell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4CF5-525E-4B65-9EB8-1AF186C965B8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7536-8D4E-4A39-9AAF-994AB88027C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o now we know what we are copying we are copying the blueprint for a protein…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But HOW do we do it???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asy right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No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magine you are trying to build a house… (cell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Here are the problem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A…….the blueprints are locked inside the library (nucleus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B … The blueprints are written in another language…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… The man (Ribosome) who is going to build the house isn’t allowed inside the library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F6DC-E1CE-4746-A532-00D0410D031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8ADC-CB4C-4CCD-990D-1B9BEDDD3D3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4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re are enzymes inside the library(nucleus) that are able to change the DNA code into “english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s step is call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Transcrip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nzyme (RNA polymerase) does this by unzipping the DNA, and reading one side making a copy of the DNA, (almost like replication and changing it so that Ribosome will be able to read i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1C7C-FAED-4752-A360-611017FBF35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3F9A-3DDD-4161-A19E-EAAFEE6AF23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s copy is called mRNA (messenger Ribonucleic acid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stead of being a double strand RNA is single stranded, and uses Uricil instead of thym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racil bonds with Adenine in R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nzyme knows where to  start and stop copying the DNA  because the DNA has a start, and stop code in those plac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40AB-0516-41FD-9AD3-81A4AE773D7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9679-8C5B-4E24-8183-2B5216B0BDB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3:43:30Z</dcterms:created>
  <dc:creator>Registered User</dc:creator>
  <dc:description/>
  <dc:language>en-US</dc:language>
  <cp:lastModifiedBy>Registered User</cp:lastModifiedBy>
  <dcterms:modified xsi:type="dcterms:W3CDTF">2009-01-28T13:10:51Z</dcterms:modified>
  <cp:revision>175</cp:revision>
  <dc:subject/>
  <dc:title>Heredity and Inheritance</dc:title>
</cp:coreProperties>
</file>